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DCC8-2991-479A-B14C-F0AB4892D91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5043-968D-446F-810C-83069D137F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3EDD-0902-430D-A521-92B84F1CE3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6063-4DF5-4036-9083-C5EB14C6D9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AC8F-B268-43CF-A522-1DF9D18E8B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BD8-2E22-4146-ABDB-4E89A11BD0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374E-E1E0-4AA4-9D7A-328E20F194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1890-9991-4DCE-83C7-26B6FD04C4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0D84-8B29-4C57-8CC7-B24E2346C9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8150-9A51-4812-83B7-50F885B5C2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5F3E-DC13-4A4A-8F2D-B784D5D9CB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8ED7-8FC7-43DD-8D11-7522459656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532D-D3A0-483E-A2F7-1C5492EAF1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1E36-7BC3-4DF6-B2F6-E78E7BFCB0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4BC1-FD13-4E0C-A7E7-C32F457607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90D8-F9F4-41B3-8ED2-FCCE8D3AF4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F44-C150-42CE-8F07-A8856F14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435-529A-423D-A27D-9EB390D1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9C4-6AC6-4735-96B0-A06B75DE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6D4-E540-4148-A675-5ADD186A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4F8-4D85-440F-B213-5C8C092C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E2B-65A8-4A35-AF03-57E4F588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6F0-CB3C-4E39-B03F-6D6565C2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1C4-6564-4A1C-9B7F-74F1755F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12E-2FE5-441B-84EC-78368347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D69-AA33-4FF4-A469-BEC9A4E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8B2-E232-4A94-A137-2927526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8C7-3D32-4B47-9D79-4F85A063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D768-8489-469B-AE67-41A0AE8C7B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7007-F6A9-406A-9AD2-05067C020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"/>
          <p:cNvPicPr/>
          <p:nvPr/>
        </p:nvPicPr>
        <p:blipFill>
          <a:blip r:embed="rId1"/>
          <a:srcRect l="0" t="1333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ook and list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0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Oval 6"/>
          <p:cNvSpPr/>
          <p:nvPr/>
        </p:nvSpPr>
        <p:spPr>
          <a:xfrm>
            <a:off x="304920" y="411480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5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ook and list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3" name="Picture 7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Oval 8"/>
          <p:cNvSpPr/>
          <p:nvPr/>
        </p:nvSpPr>
        <p:spPr>
          <a:xfrm>
            <a:off x="3124080" y="480060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Oval 6"/>
          <p:cNvSpPr/>
          <p:nvPr/>
        </p:nvSpPr>
        <p:spPr>
          <a:xfrm>
            <a:off x="6248520" y="380988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ook and list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8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Oval 5"/>
          <p:cNvSpPr/>
          <p:nvPr/>
        </p:nvSpPr>
        <p:spPr>
          <a:xfrm>
            <a:off x="228600" y="411480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ry to underst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1" name="Picture 9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Oval 10"/>
          <p:cNvSpPr/>
          <p:nvPr/>
        </p:nvSpPr>
        <p:spPr>
          <a:xfrm>
            <a:off x="3429000" y="480060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2895480" y="6094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et's s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3520" y="1905120"/>
            <a:ext cx="8076960" cy="3018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old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old hat, this old 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se old jeans, and this old skir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ut them away! It’s a sunny, sunn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’s time to wear your shorts to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u=4127976091,2855847619&amp;fm=23&amp;gp=0"/>
          <p:cNvPicPr/>
          <p:nvPr/>
        </p:nvPicPr>
        <p:blipFill>
          <a:blip r:embed="rId1"/>
          <a:stretch/>
        </p:blipFill>
        <p:spPr>
          <a:xfrm>
            <a:off x="1600200" y="2133720"/>
            <a:ext cx="3809880" cy="2319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572000" y="2057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1447920" y="1752480"/>
            <a:ext cx="4343400" cy="3047760"/>
            <a:chOff x="1447920" y="1752480"/>
            <a:chExt cx="4343400" cy="3047760"/>
          </a:xfrm>
        </p:grpSpPr>
        <p:sp>
          <p:nvSpPr>
            <p:cNvPr id="54" name="Rectangle 8"/>
            <p:cNvSpPr/>
            <p:nvPr/>
          </p:nvSpPr>
          <p:spPr>
            <a:xfrm>
              <a:off x="1447920" y="1752480"/>
              <a:ext cx="1378440" cy="304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4412520" y="1752480"/>
              <a:ext cx="1378800" cy="304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 rot="5400000">
              <a:off x="3009960" y="649440"/>
              <a:ext cx="1013400" cy="32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rot="5400000">
              <a:off x="3030840" y="2704320"/>
              <a:ext cx="972000" cy="32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WordArt 19"/>
          <p:cNvSpPr txBox="1"/>
          <p:nvPr/>
        </p:nvSpPr>
        <p:spPr>
          <a:xfrm>
            <a:off x="1219320" y="121932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ree tal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1299960" y="434484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se jacket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u=2815567989,2704344571&amp;fm=23&amp;gp=0"/>
          <p:cNvPicPr/>
          <p:nvPr/>
        </p:nvPicPr>
        <p:blipFill>
          <a:blip r:embed="rId1"/>
          <a:stretch/>
        </p:blipFill>
        <p:spPr>
          <a:xfrm>
            <a:off x="1600200" y="1905120"/>
            <a:ext cx="2286000" cy="1579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4648320" y="228600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1523880" y="1447920"/>
            <a:ext cx="3962520" cy="3200040"/>
            <a:chOff x="1523880" y="1447920"/>
            <a:chExt cx="3962520" cy="3200040"/>
          </a:xfrm>
        </p:grpSpPr>
        <p:sp>
          <p:nvSpPr>
            <p:cNvPr id="63" name="Rectangle 12"/>
            <p:cNvSpPr/>
            <p:nvPr/>
          </p:nvSpPr>
          <p:spPr>
            <a:xfrm>
              <a:off x="1523880" y="1447920"/>
              <a:ext cx="1257480" cy="31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4228560" y="1447920"/>
              <a:ext cx="1257840" cy="31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4"/>
            <p:cNvSpPr/>
            <p:nvPr/>
          </p:nvSpPr>
          <p:spPr>
            <a:xfrm rot="5400000">
              <a:off x="2879280" y="511200"/>
              <a:ext cx="1064160" cy="29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 rot="5400000">
              <a:off x="2900880" y="2669040"/>
              <a:ext cx="1020600" cy="29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8"/>
          <p:cNvSpPr/>
          <p:nvPr/>
        </p:nvSpPr>
        <p:spPr>
          <a:xfrm>
            <a:off x="1749960" y="4190760"/>
            <a:ext cx="298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se swe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9"/>
          <p:cNvSpPr txBox="1"/>
          <p:nvPr/>
        </p:nvSpPr>
        <p:spPr>
          <a:xfrm>
            <a:off x="1219320" y="121932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9" name="矩形 12" descr=""/>
          <p:cNvPicPr/>
          <p:nvPr/>
        </p:nvPicPr>
        <p:blipFill>
          <a:blip r:embed="rId2"/>
          <a:stretch/>
        </p:blipFill>
        <p:spPr>
          <a:xfrm>
            <a:off x="1596960" y="1109520"/>
            <a:ext cx="4584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u=605491000,1709391576&amp;fm=23&amp;gp=0"/>
          <p:cNvPicPr/>
          <p:nvPr/>
        </p:nvPicPr>
        <p:blipFill>
          <a:blip r:embed="rId1"/>
          <a:srcRect l="0" t="0" r="0" b="4868"/>
          <a:stretch/>
        </p:blipFill>
        <p:spPr>
          <a:xfrm>
            <a:off x="609480" y="1752480"/>
            <a:ext cx="1828800" cy="1676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572000" y="24382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6"/>
          <p:cNvGrpSpPr/>
          <p:nvPr/>
        </p:nvGrpSpPr>
        <p:grpSpPr>
          <a:xfrm>
            <a:off x="380880" y="1371600"/>
            <a:ext cx="3962520" cy="3200040"/>
            <a:chOff x="380880" y="1371600"/>
            <a:chExt cx="3962520" cy="3200040"/>
          </a:xfrm>
        </p:grpSpPr>
        <p:sp>
          <p:nvSpPr>
            <p:cNvPr id="73" name="Rectangle 7"/>
            <p:cNvSpPr/>
            <p:nvPr/>
          </p:nvSpPr>
          <p:spPr>
            <a:xfrm>
              <a:off x="380880" y="1371600"/>
              <a:ext cx="1257480" cy="31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085560" y="1371600"/>
              <a:ext cx="1257840" cy="31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 rot="5400000">
              <a:off x="1736280" y="434880"/>
              <a:ext cx="1064160" cy="29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"/>
            <p:cNvSpPr/>
            <p:nvPr/>
          </p:nvSpPr>
          <p:spPr>
            <a:xfrm rot="5400000">
              <a:off x="1757880" y="2592720"/>
              <a:ext cx="1020600" cy="29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13"/>
          <p:cNvSpPr/>
          <p:nvPr/>
        </p:nvSpPr>
        <p:spPr>
          <a:xfrm>
            <a:off x="1349280" y="4266360"/>
            <a:ext cx="37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se dress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219320" y="121932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ree tal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u=2226859527,1035534680&amp;fm=23&amp;gp=0"/>
          <p:cNvPicPr/>
          <p:nvPr/>
        </p:nvPicPr>
        <p:blipFill>
          <a:blip r:embed="rId1"/>
          <a:stretch/>
        </p:blipFill>
        <p:spPr>
          <a:xfrm>
            <a:off x="1828800" y="1905120"/>
            <a:ext cx="1670040" cy="1676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648320" y="24382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1371600" y="1447920"/>
            <a:ext cx="3962520" cy="3200040"/>
            <a:chOff x="1371600" y="1447920"/>
            <a:chExt cx="3962520" cy="3200040"/>
          </a:xfrm>
        </p:grpSpPr>
        <p:sp>
          <p:nvSpPr>
            <p:cNvPr id="82" name="Rectangle 5"/>
            <p:cNvSpPr/>
            <p:nvPr/>
          </p:nvSpPr>
          <p:spPr>
            <a:xfrm>
              <a:off x="1371600" y="1447920"/>
              <a:ext cx="1257480" cy="31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4076280" y="1447920"/>
              <a:ext cx="1257840" cy="31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 rot="5400000">
              <a:off x="2727000" y="511200"/>
              <a:ext cx="1064160" cy="29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 rot="5400000">
              <a:off x="2748600" y="2669040"/>
              <a:ext cx="1020600" cy="29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9"/>
          <p:cNvSpPr/>
          <p:nvPr/>
        </p:nvSpPr>
        <p:spPr>
          <a:xfrm>
            <a:off x="1521360" y="4266360"/>
            <a:ext cx="34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hirt you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0"/>
          <p:cNvSpPr txBox="1"/>
          <p:nvPr/>
        </p:nvSpPr>
        <p:spPr>
          <a:xfrm>
            <a:off x="1219320" y="121932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ree tal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ock"/>
          <p:cNvPicPr/>
          <p:nvPr/>
        </p:nvPicPr>
        <p:blipFill>
          <a:blip r:embed="rId1"/>
          <a:stretch/>
        </p:blipFill>
        <p:spPr>
          <a:xfrm>
            <a:off x="2286000" y="2209680"/>
            <a:ext cx="19051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5"/>
          <p:cNvGrpSpPr/>
          <p:nvPr/>
        </p:nvGrpSpPr>
        <p:grpSpPr>
          <a:xfrm>
            <a:off x="1828800" y="1981080"/>
            <a:ext cx="3505320" cy="2133360"/>
            <a:chOff x="1828800" y="1981080"/>
            <a:chExt cx="3505320" cy="2133360"/>
          </a:xfrm>
        </p:grpSpPr>
        <p:sp>
          <p:nvSpPr>
            <p:cNvPr id="90" name="Rectangle 6"/>
            <p:cNvSpPr/>
            <p:nvPr/>
          </p:nvSpPr>
          <p:spPr>
            <a:xfrm>
              <a:off x="1828800" y="1981080"/>
              <a:ext cx="1112400" cy="21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4221360" y="1981080"/>
              <a:ext cx="1112760" cy="21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 rot="5400000">
              <a:off x="3143520" y="1036440"/>
              <a:ext cx="709560" cy="259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 rot="5400000">
              <a:off x="3157920" y="2475000"/>
              <a:ext cx="680400" cy="259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419112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1010880" y="4266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se socks a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1219320" y="121932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ree tal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u=1816355398,2420015454&amp;fm=23&amp;gp=0"/>
          <p:cNvPicPr/>
          <p:nvPr/>
        </p:nvPicPr>
        <p:blipFill>
          <a:blip r:embed="rId1"/>
          <a:stretch/>
        </p:blipFill>
        <p:spPr>
          <a:xfrm>
            <a:off x="2133720" y="1981080"/>
            <a:ext cx="1449360" cy="1752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572000" y="24382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371600" y="1447920"/>
            <a:ext cx="3962520" cy="3200040"/>
            <a:chOff x="1371600" y="1447920"/>
            <a:chExt cx="3962520" cy="3200040"/>
          </a:xfrm>
        </p:grpSpPr>
        <p:sp>
          <p:nvSpPr>
            <p:cNvPr id="100" name="Rectangle 5"/>
            <p:cNvSpPr/>
            <p:nvPr/>
          </p:nvSpPr>
          <p:spPr>
            <a:xfrm>
              <a:off x="1371600" y="1447920"/>
              <a:ext cx="1257480" cy="31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076280" y="1447920"/>
              <a:ext cx="1257840" cy="31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 rot="5400000">
              <a:off x="2727000" y="511200"/>
              <a:ext cx="1064160" cy="29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 rot="5400000">
              <a:off x="2748600" y="2669040"/>
              <a:ext cx="1020600" cy="29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0"/>
          <p:cNvSpPr/>
          <p:nvPr/>
        </p:nvSpPr>
        <p:spPr>
          <a:xfrm>
            <a:off x="1107720" y="426636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ts you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1219320" y="121932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ree tal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ook and list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7" name="Picture 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Oval 10"/>
          <p:cNvSpPr/>
          <p:nvPr/>
        </p:nvSpPr>
        <p:spPr>
          <a:xfrm>
            <a:off x="6400800" y="380988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20:42Z</dcterms:created>
  <dc:creator/>
  <dc:description/>
  <dc:language>en-US</dc:language>
  <cp:lastModifiedBy/>
  <dcterms:modified xsi:type="dcterms:W3CDTF">2016-12-28T01:23:00Z</dcterms:modified>
  <cp:revision>1</cp:revision>
  <dc:subject/>
  <dc:title/>
</cp:coreProperties>
</file>